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F37-058B-471E-9366-55477F01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0BE-310C-452E-90E5-F78944C9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126-56FF-4275-9707-533EBF0E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25D-567E-4CD9-A619-F9E7026F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0CB-F7B4-4509-A97E-501282A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942-4B8E-46E3-92D6-CC54C4E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83E-838B-415E-A464-6908C78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97F-E4B3-4A92-9333-3ADA84F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B87-753B-4EA4-B6A3-5A58567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A48-AE6E-4C18-87AA-612782C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E69-F90A-463E-A865-FDB2923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F4F-9D1C-4341-9E4D-CFFFD96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FBE-762F-4F5F-BAB0-9F21EE3D0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28840" y="1714680"/>
            <a:ext cx="7530840" cy="2228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O IS MISSE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332000" y="5013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95280" y="57340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LESSON </a:t>
            </a: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3 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Y FAMILY /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О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2743200" cy="271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BD09232_"/>
          <p:cNvPicPr/>
          <p:nvPr/>
        </p:nvPicPr>
        <p:blipFill>
          <a:blip r:embed="rId2"/>
          <a:stretch/>
        </p:blipFill>
        <p:spPr>
          <a:xfrm>
            <a:off x="5929200" y="353880"/>
            <a:ext cx="1928880" cy="24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2"/>
          <p:cNvGraphicFramePr/>
          <p:nvPr/>
        </p:nvGraphicFramePr>
        <p:xfrm>
          <a:off x="4786200" y="3143160"/>
          <a:ext cx="100332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143160"/>
                    <a:ext cx="10033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12" descr="МАНЯ"/>
          <p:cNvPicPr/>
          <p:nvPr/>
        </p:nvPicPr>
        <p:blipFill>
          <a:blip r:embed="rId5"/>
          <a:stretch/>
        </p:blipFill>
        <p:spPr>
          <a:xfrm>
            <a:off x="928800" y="4500720"/>
            <a:ext cx="2236680" cy="153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3"/>
          <p:cNvGraphicFramePr/>
          <p:nvPr/>
        </p:nvGraphicFramePr>
        <p:xfrm>
          <a:off x="6500880" y="4071960"/>
          <a:ext cx="1947960" cy="254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0880" y="4071960"/>
                    <a:ext cx="19479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"/>
          <p:cNvGraphicFramePr/>
          <p:nvPr/>
        </p:nvGraphicFramePr>
        <p:xfrm>
          <a:off x="3786120" y="142920"/>
          <a:ext cx="1781280" cy="2319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6120" y="142920"/>
                    <a:ext cx="178128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6215040" y="428760"/>
            <a:ext cx="223848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BD09232_"/>
          <p:cNvPicPr/>
          <p:nvPr/>
        </p:nvPicPr>
        <p:blipFill>
          <a:blip r:embed="rId2"/>
          <a:stretch/>
        </p:blipFill>
        <p:spPr>
          <a:xfrm>
            <a:off x="714240" y="3214800"/>
            <a:ext cx="2214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2"/>
          <p:cNvGraphicFramePr/>
          <p:nvPr/>
        </p:nvGraphicFramePr>
        <p:xfrm>
          <a:off x="4500720" y="0"/>
          <a:ext cx="1288800" cy="31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0"/>
                    <a:ext cx="128880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12" descr="МАНЯ"/>
          <p:cNvPicPr/>
          <p:nvPr/>
        </p:nvPicPr>
        <p:blipFill>
          <a:blip r:embed="rId5"/>
          <a:stretch/>
        </p:blipFill>
        <p:spPr>
          <a:xfrm>
            <a:off x="6072120" y="4286160"/>
            <a:ext cx="24163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3"/>
          <p:cNvGraphicFramePr/>
          <p:nvPr/>
        </p:nvGraphicFramePr>
        <p:xfrm>
          <a:off x="571680" y="500040"/>
          <a:ext cx="2162160" cy="282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500040"/>
                    <a:ext cx="216216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3143160" y="2928960"/>
          <a:ext cx="2281320" cy="297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43160" y="2928960"/>
                    <a:ext cx="228132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192320" y="500040"/>
            <a:ext cx="2522520" cy="24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BD09232_"/>
          <p:cNvPicPr/>
          <p:nvPr/>
        </p:nvPicPr>
        <p:blipFill>
          <a:blip r:embed="rId2"/>
          <a:stretch/>
        </p:blipFill>
        <p:spPr>
          <a:xfrm>
            <a:off x="6286680" y="2562120"/>
            <a:ext cx="2214360" cy="28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"/>
          <p:cNvGraphicFramePr/>
          <p:nvPr/>
        </p:nvGraphicFramePr>
        <p:xfrm>
          <a:off x="3639960" y="1600200"/>
          <a:ext cx="8607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9960" y="1600200"/>
                    <a:ext cx="8607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12" descr="МАНЯ"/>
          <p:cNvPicPr/>
          <p:nvPr/>
        </p:nvPicPr>
        <p:blipFill>
          <a:blip r:embed="rId5"/>
          <a:stretch/>
        </p:blipFill>
        <p:spPr>
          <a:xfrm>
            <a:off x="3571920" y="4357800"/>
            <a:ext cx="2406600" cy="16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3"/>
          <p:cNvGraphicFramePr/>
          <p:nvPr/>
        </p:nvGraphicFramePr>
        <p:xfrm>
          <a:off x="285840" y="3857760"/>
          <a:ext cx="2019240" cy="26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840" y="3857760"/>
                    <a:ext cx="20192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7077240" y="0"/>
          <a:ext cx="2066760" cy="269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77240" y="0"/>
                    <a:ext cx="206676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0" y="571680"/>
            <a:ext cx="2857680" cy="2827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BD09232_"/>
          <p:cNvPicPr/>
          <p:nvPr/>
        </p:nvPicPr>
        <p:blipFill>
          <a:blip r:embed="rId2"/>
          <a:stretch/>
        </p:blipFill>
        <p:spPr>
          <a:xfrm>
            <a:off x="6643800" y="3929040"/>
            <a:ext cx="1928880" cy="24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"/>
          <p:cNvGraphicFramePr/>
          <p:nvPr/>
        </p:nvGraphicFramePr>
        <p:xfrm>
          <a:off x="4000680" y="3786120"/>
          <a:ext cx="1145880" cy="27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3786120"/>
                    <a:ext cx="1145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2" descr="МАНЯ"/>
          <p:cNvPicPr/>
          <p:nvPr/>
        </p:nvPicPr>
        <p:blipFill>
          <a:blip r:embed="rId5"/>
          <a:stretch/>
        </p:blipFill>
        <p:spPr>
          <a:xfrm>
            <a:off x="785880" y="3643200"/>
            <a:ext cx="2308320" cy="15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3"/>
          <p:cNvGraphicFramePr/>
          <p:nvPr/>
        </p:nvGraphicFramePr>
        <p:xfrm>
          <a:off x="6357960" y="357120"/>
          <a:ext cx="2305080" cy="300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7960" y="357120"/>
                    <a:ext cx="23050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3429000" y="428760"/>
          <a:ext cx="2066760" cy="269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428760"/>
                    <a:ext cx="206676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2428920" cy="240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D09232_"/>
          <p:cNvPicPr/>
          <p:nvPr/>
        </p:nvPicPr>
        <p:blipFill>
          <a:blip r:embed="rId2"/>
          <a:stretch/>
        </p:blipFill>
        <p:spPr>
          <a:xfrm>
            <a:off x="6858000" y="214200"/>
            <a:ext cx="1785960" cy="22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2"/>
          <p:cNvGraphicFramePr/>
          <p:nvPr/>
        </p:nvGraphicFramePr>
        <p:xfrm>
          <a:off x="5857920" y="3786120"/>
          <a:ext cx="1135080" cy="27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920" y="3786120"/>
                    <a:ext cx="11350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12" descr="МАНЯ"/>
          <p:cNvPicPr/>
          <p:nvPr/>
        </p:nvPicPr>
        <p:blipFill>
          <a:blip r:embed="rId5"/>
          <a:stretch/>
        </p:blipFill>
        <p:spPr>
          <a:xfrm>
            <a:off x="3071880" y="0"/>
            <a:ext cx="2379600" cy="16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3"/>
          <p:cNvGraphicFramePr/>
          <p:nvPr/>
        </p:nvGraphicFramePr>
        <p:xfrm>
          <a:off x="3429000" y="2286000"/>
          <a:ext cx="2090880" cy="27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9000" y="2286000"/>
                    <a:ext cx="209088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500040" y="3143160"/>
          <a:ext cx="2357640" cy="307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040" y="3143160"/>
                    <a:ext cx="235764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6715080" y="4024440"/>
            <a:ext cx="2214720" cy="219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BD09232_"/>
          <p:cNvPicPr/>
          <p:nvPr/>
        </p:nvPicPr>
        <p:blipFill>
          <a:blip r:embed="rId2"/>
          <a:stretch/>
        </p:blipFill>
        <p:spPr>
          <a:xfrm>
            <a:off x="4286160" y="500040"/>
            <a:ext cx="2000520" cy="25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7715160" y="500040"/>
          <a:ext cx="1146240" cy="27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5160" y="500040"/>
                    <a:ext cx="114624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12" descr="МАНЯ"/>
          <p:cNvPicPr/>
          <p:nvPr/>
        </p:nvPicPr>
        <p:blipFill>
          <a:blip r:embed="rId5"/>
          <a:stretch/>
        </p:blipFill>
        <p:spPr>
          <a:xfrm>
            <a:off x="571680" y="4071960"/>
            <a:ext cx="287964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"/>
          <p:cNvGraphicFramePr/>
          <p:nvPr/>
        </p:nvGraphicFramePr>
        <p:xfrm>
          <a:off x="785880" y="214200"/>
          <a:ext cx="2305080" cy="300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214200"/>
                    <a:ext cx="23050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3643200" y="3214800"/>
          <a:ext cx="2071800" cy="269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43200" y="3214800"/>
                    <a:ext cx="20718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5:47:29Z</dcterms:created>
  <dc:creator>пользователь</dc:creator>
  <dc:description/>
  <dc:language>en-US</dc:language>
  <cp:lastModifiedBy>123</cp:lastModifiedBy>
  <dcterms:modified xsi:type="dcterms:W3CDTF">2012-11-06T14:02:16Z</dcterms:modified>
  <cp:revision>30</cp:revision>
  <dc:subject/>
  <dc:title>Слайд 1</dc:title>
</cp:coreProperties>
</file>